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8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26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BD37-FB1E-4A23-B5AF-E9E17ADC2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520" y="1096920"/>
            <a:ext cx="877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82520" y="3820680"/>
            <a:ext cx="877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E60A-C435-4E13-99C7-AD3AA2A9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1096920"/>
            <a:ext cx="4284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1080" y="1096920"/>
            <a:ext cx="4284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2520" y="3820680"/>
            <a:ext cx="4284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1080" y="3820680"/>
            <a:ext cx="4284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9DF8-6DC4-4D62-95D2-72AEC28FA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520" y="1096920"/>
            <a:ext cx="2826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51080" y="1096920"/>
            <a:ext cx="2826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19280" y="1096920"/>
            <a:ext cx="2826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82520" y="3820680"/>
            <a:ext cx="2826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51080" y="3820680"/>
            <a:ext cx="2826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19280" y="3820680"/>
            <a:ext cx="282672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0503-9060-4AFE-9FF5-9903EC862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82520" y="1096920"/>
            <a:ext cx="877896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0C61-A36B-4504-B4E6-BF211983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2520" y="1096920"/>
            <a:ext cx="87789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87DA-B6FD-4C4A-99FD-705BBDD4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1096920"/>
            <a:ext cx="42840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080" y="1096920"/>
            <a:ext cx="42840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865C-0A15-4805-BF4A-FB5B34809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0F94-ADD4-46E2-B737-5367BB06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0760" y="274320"/>
            <a:ext cx="7010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9980-77A0-4282-9E54-29C324A7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520" y="1096920"/>
            <a:ext cx="4284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080" y="1096920"/>
            <a:ext cx="42840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82520" y="3820680"/>
            <a:ext cx="4284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CC8D-3E44-4102-81A2-CD61FA33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520" y="1096920"/>
            <a:ext cx="42840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080" y="1096920"/>
            <a:ext cx="4284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1080" y="3820680"/>
            <a:ext cx="4284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78D7-8603-47FC-86DE-1164922C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520" y="1096920"/>
            <a:ext cx="4284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080" y="1096920"/>
            <a:ext cx="428400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82520" y="3820680"/>
            <a:ext cx="8778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EEA9-B33D-4E61-8C0B-097B59F2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82520" y="1096920"/>
            <a:ext cx="87789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CCFC-D928-49B0-8703-1745F08A37F4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2) </a:t>
            </a:r>
            <a:r>
              <a:rPr b="0" lang="zh-TW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76040" y="152280"/>
            <a:ext cx="8815680" cy="882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001000" y="152280"/>
            <a:ext cx="995400" cy="88272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478720" y="0"/>
            <a:ext cx="61596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gsmarena.com/sagem_vs1-pictures-1181.php" TargetMode="External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4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362320"/>
            <a:ext cx="7010640" cy="1203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inion"/>
              </a:rPr>
              <a:t>Jerry Introductio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Minion"/>
              </a:rPr>
              <a:t>- for Beijing Workshop</a:t>
            </a:r>
            <a:endParaRPr b="1" lang="en-US" sz="3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Kheng-Wah K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Category Management, Beij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13 Feb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Schedule communicated to Vodafon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82520" y="1096920"/>
            <a:ext cx="87789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dafone’s requires BenQ to regularly update them on Jerry project status and align with their project schedu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dates communicated to Vodafone curr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sign freeze (“S0”): 28 F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B1+ samples: 9 J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ompleted sw and hw (“S25”): 22 J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cceptance Testing Start: 3 J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User guide and packaging finalized: 21 J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echnical Acceptance reached: 22 S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First shipment out of factory: 28 S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livery Start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9 Sept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60385" t="0" r="0" b="0"/>
          <a:stretch/>
        </p:blipFill>
        <p:spPr>
          <a:xfrm>
            <a:off x="7726320" y="4022640"/>
            <a:ext cx="115272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Introducti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2520" y="1096920"/>
            <a:ext cx="8778960" cy="37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is part of a “package deal” agreement with Vodafone that includes 2 other BenQ 3G products. This project is therefore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 strategic impor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dafone has requested delivery starts (DS) for Jerry in September 2006, to be in-time for their year-end Christmas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0" t="20765" r="27355" b="22176"/>
          <a:stretch/>
        </p:blipFill>
        <p:spPr>
          <a:xfrm>
            <a:off x="914400" y="5121360"/>
            <a:ext cx="3313080" cy="533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621320" y="5075280"/>
            <a:ext cx="3154320" cy="5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716"/>
                </a:solidFill>
                <a:latin typeface="Minion"/>
              </a:rPr>
              <a:t>Vodafone Simply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82520" y="2696760"/>
            <a:ext cx="877896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Vodafone Simply offers simple, easy-to-use mobile phones and clear tariffs targeting at the middle-aged and older-aged consum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0760" y="1920960"/>
            <a:ext cx="3162240" cy="546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8600" y="11430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文鼎中黑"/>
              </a:rPr>
              <a:t>Jerry is designed exclusively for </a:t>
            </a:r>
            <a:r>
              <a:rPr b="0" lang="en-US" sz="2400" spc="-1" strike="noStrike">
                <a:solidFill>
                  <a:srgbClr val="fe2716"/>
                </a:solidFill>
                <a:latin typeface="Arial"/>
                <a:ea typeface="文鼎中黑"/>
              </a:rPr>
              <a:t>Vodafone Simp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文鼎中黑"/>
              </a:rPr>
              <a:t>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rcRect l="0" t="10022" r="0" b="0"/>
          <a:stretch/>
        </p:blipFill>
        <p:spPr>
          <a:xfrm>
            <a:off x="960480" y="4114800"/>
            <a:ext cx="2560680" cy="1521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rcRect l="0" t="6441" r="0" b="30110"/>
          <a:stretch/>
        </p:blipFill>
        <p:spPr>
          <a:xfrm>
            <a:off x="6035760" y="3978360"/>
            <a:ext cx="192564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e2716"/>
                </a:solidFill>
                <a:latin typeface="Minion"/>
              </a:rPr>
              <a:t>Vodafone Simply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2520" y="1646280"/>
            <a:ext cx="8778960" cy="37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Vodafone Simply mobile phones are designed for users who wa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An easy-to-use phone only for voice calls and tex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To keep in touch easily with your family and frie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And uncomplicated phone with built-in helpful tip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mobile phones intuitively designed to provide only the functions users really n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74680" y="1189080"/>
            <a:ext cx="3162240" cy="546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0" t="8429" r="0" b="0"/>
          <a:stretch/>
        </p:blipFill>
        <p:spPr>
          <a:xfrm>
            <a:off x="3840120" y="4114800"/>
            <a:ext cx="1681200" cy="2327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rcRect l="0" t="14038" r="0" b="0"/>
          <a:stretch/>
        </p:blipFill>
        <p:spPr>
          <a:xfrm>
            <a:off x="6354720" y="4160880"/>
            <a:ext cx="1478160" cy="1911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rcRect l="0" t="20076" r="0" b="0"/>
          <a:stretch/>
        </p:blipFill>
        <p:spPr>
          <a:xfrm>
            <a:off x="549360" y="4160880"/>
            <a:ext cx="205272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e2716"/>
                </a:solidFill>
                <a:latin typeface="Minion"/>
              </a:rPr>
              <a:t>Vodafone Simply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520" y="1096920"/>
            <a:ext cx="87789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dafone Simply phones are to be designed and realized according to Vodafone specified requiremen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 Simply Rel. 1 : Sagem VS1 and V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 Simply Rel. 2: Sagem VS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 Simply Rel.3: BenQ Jerry (VS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Vofafone Simply Sagem VS3"/>
          <p:cNvPicPr/>
          <p:nvPr/>
        </p:nvPicPr>
        <p:blipFill>
          <a:blip r:embed="rId1"/>
          <a:stretch/>
        </p:blipFill>
        <p:spPr>
          <a:xfrm>
            <a:off x="5303880" y="3108240"/>
            <a:ext cx="415800" cy="1203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Sagem VS1&#10;MORE PICTURE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92960" y="2011320"/>
            <a:ext cx="822240" cy="110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Sagem VS2"/>
          <p:cNvPicPr/>
          <p:nvPr/>
        </p:nvPicPr>
        <p:blipFill>
          <a:blip r:embed="rId4"/>
          <a:stretch/>
        </p:blipFill>
        <p:spPr>
          <a:xfrm>
            <a:off x="7497720" y="1965240"/>
            <a:ext cx="514440" cy="1203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5851440" y="4572000"/>
            <a:ext cx="4921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What’s unique about Jerry requirements?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72" name="" descr="Special Buttons"/>
          <p:cNvPicPr/>
          <p:nvPr/>
        </p:nvPicPr>
        <p:blipFill>
          <a:blip r:embed="rId1"/>
          <a:stretch/>
        </p:blipFill>
        <p:spPr>
          <a:xfrm>
            <a:off x="723960" y="1308240"/>
            <a:ext cx="2031840" cy="5079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11120" y="1874880"/>
          <a:ext cx="5075280" cy="2282760"/>
        </p:xfrm>
        <a:graphic>
          <a:graphicData uri="http://schemas.openxmlformats.org/drawingml/2006/table">
            <a:tbl>
              <a:tblPr/>
              <a:tblGrid>
                <a:gridCol w="1052640"/>
                <a:gridCol w="4022640"/>
              </a:tblGrid>
              <a:tr h="2282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Home Screen (left)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This button takes you out of any menu and back to the home screen.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Contacts (middle)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This button takes you to the contacts menu.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Log (right)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This button takes you to your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calls / messages.</a:t>
                      </a:r>
                      <a:br>
                        <a:rPr sz="1000"/>
                      </a:b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035760" y="1600200"/>
          <a:ext cx="2880720" cy="2149200"/>
        </p:xfrm>
        <a:graphic>
          <a:graphicData uri="http://schemas.openxmlformats.org/drawingml/2006/table">
            <a:tbl>
              <a:tblPr/>
              <a:tblGrid>
                <a:gridCol w="2880720"/>
              </a:tblGrid>
              <a:tr h="2149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Lock and Unlock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Did you ever get one of those mysterious phone calls that sound like they're coming from the inside of someone's pocket?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That's why we've made it easy to lock the Vodafone Simply mobile phon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330880" y="1189080"/>
            <a:ext cx="669960" cy="2286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57200" y="1965240"/>
            <a:ext cx="965160" cy="22399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03280" y="3475080"/>
            <a:ext cx="96048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206960" y="4206960"/>
          <a:ext cx="4313160" cy="1234800"/>
        </p:xfrm>
        <a:graphic>
          <a:graphicData uri="http://schemas.openxmlformats.org/drawingml/2006/table">
            <a:tbl>
              <a:tblPr/>
              <a:tblGrid>
                <a:gridCol w="4313160"/>
              </a:tblGrid>
              <a:tr h="1234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Volume higher/lower</a:t>
                      </a:r>
                      <a:br>
                        <a:rPr sz="1000"/>
                      </a:b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Can’t hear the other party in noisy environment. We've made it easy to adjust the call volume with the volume adjustment side key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3292560" y="3840120"/>
            <a:ext cx="64440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What’s unique about Jerry requirements?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83" name="" descr="Special Buttons"/>
          <p:cNvPicPr/>
          <p:nvPr/>
        </p:nvPicPr>
        <p:blipFill>
          <a:blip r:embed="rId1"/>
          <a:stretch/>
        </p:blipFill>
        <p:spPr>
          <a:xfrm>
            <a:off x="723960" y="1308240"/>
            <a:ext cx="2031840" cy="5079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31880" y="4689360"/>
            <a:ext cx="1461960" cy="603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2971800" y="4525920"/>
          <a:ext cx="4313160" cy="1008000"/>
        </p:xfrm>
        <a:graphic>
          <a:graphicData uri="http://schemas.openxmlformats.org/drawingml/2006/table">
            <a:tbl>
              <a:tblPr/>
              <a:tblGrid>
                <a:gridCol w="4313160"/>
              </a:tblGrid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Power on/off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Could figure out how to power on/off the phone? We have make it easy to power on/off with a separate power button.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2057400" y="2468520"/>
          <a:ext cx="3017880" cy="1309680"/>
        </p:xfrm>
        <a:graphic>
          <a:graphicData uri="http://schemas.openxmlformats.org/drawingml/2006/table">
            <a:tbl>
              <a:tblPr/>
              <a:tblGrid>
                <a:gridCol w="3017880"/>
              </a:tblGrid>
              <a:tr h="131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Ringer Settings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The Vodafone Simply mobile phone has four ringer settings which can be set using this switch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Verdana"/>
                          <a:ea typeface="SimSun"/>
                        </a:rPr>
                        <a:t>No mucking about in menus to find the right setting. So no excuses for letting your Vodafone Simply mobile phone ring in the middle of your cousin's wedding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958680" y="1873080"/>
            <a:ext cx="640080" cy="23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What’s unique about Jerry requirements?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User Interface"/>
          <p:cNvPicPr/>
          <p:nvPr/>
        </p:nvPicPr>
        <p:blipFill>
          <a:blip r:embed="rId1"/>
          <a:stretch/>
        </p:blipFill>
        <p:spPr>
          <a:xfrm>
            <a:off x="411120" y="1050840"/>
            <a:ext cx="2095560" cy="444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Vodafone Simply Sagem VS2 - displays your number"/>
          <p:cNvPicPr/>
          <p:nvPr/>
        </p:nvPicPr>
        <p:blipFill>
          <a:blip r:embed="rId2"/>
          <a:srcRect l="40579" t="17765" r="18954" b="48320"/>
          <a:stretch/>
        </p:blipFill>
        <p:spPr>
          <a:xfrm>
            <a:off x="593640" y="2514600"/>
            <a:ext cx="1144800" cy="1415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74680" y="1508040"/>
            <a:ext cx="81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Vodafone has defined its own set of “easy to use” user interfa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CALL"/>
          <p:cNvPicPr/>
          <p:nvPr/>
        </p:nvPicPr>
        <p:blipFill>
          <a:blip r:embed="rId3"/>
          <a:stretch/>
        </p:blipFill>
        <p:spPr>
          <a:xfrm>
            <a:off x="2057400" y="2514600"/>
            <a:ext cx="1171440" cy="1409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Add contact"/>
          <p:cNvPicPr/>
          <p:nvPr/>
        </p:nvPicPr>
        <p:blipFill>
          <a:blip r:embed="rId4"/>
          <a:stretch/>
        </p:blipFill>
        <p:spPr>
          <a:xfrm>
            <a:off x="4800600" y="2514600"/>
            <a:ext cx="1171440" cy="1409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Log"/>
          <p:cNvPicPr/>
          <p:nvPr/>
        </p:nvPicPr>
        <p:blipFill>
          <a:blip r:embed="rId5"/>
          <a:stretch/>
        </p:blipFill>
        <p:spPr>
          <a:xfrm>
            <a:off x="7407360" y="2514600"/>
            <a:ext cx="1171440" cy="1409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Add reminder"/>
          <p:cNvPicPr/>
          <p:nvPr/>
        </p:nvPicPr>
        <p:blipFill>
          <a:blip r:embed="rId6"/>
          <a:stretch/>
        </p:blipFill>
        <p:spPr>
          <a:xfrm>
            <a:off x="6126120" y="2514600"/>
            <a:ext cx="1171440" cy="1419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Save numbers"/>
          <p:cNvPicPr/>
          <p:nvPr/>
        </p:nvPicPr>
        <p:blipFill>
          <a:blip r:embed="rId7"/>
          <a:stretch/>
        </p:blipFill>
        <p:spPr>
          <a:xfrm>
            <a:off x="3475080" y="2514600"/>
            <a:ext cx="1181160" cy="1428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1692360" y="4811760"/>
            <a:ext cx="3519360" cy="1574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20760" y="4022640"/>
            <a:ext cx="81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nion"/>
                <a:ea typeface="文鼎中黑"/>
              </a:rPr>
              <a:t>This include “re-packaging” the MMS interface to allow user to send “voice messages”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0760" y="2743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What’s unique about Jerry requirements?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82520" y="1096920"/>
            <a:ext cx="877896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P brow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to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iled requirements are covered in the Steckbrief and Vodafone Simply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erminal Product Definition (TPD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erminal Capabilities Definition (TCD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User Interface, style guide documents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12808" r="18607" b="0"/>
          <a:stretch/>
        </p:blipFill>
        <p:spPr>
          <a:xfrm>
            <a:off x="5394240" y="1371600"/>
            <a:ext cx="2651040" cy="18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Admin</cp:lastModifiedBy>
  <dcterms:modified xsi:type="dcterms:W3CDTF">2006-02-13T01:33:21Z</dcterms:modified>
  <cp:revision>64</cp:revision>
  <dc:subject/>
  <dc:title>PowerPoint 簡報</dc:title>
</cp:coreProperties>
</file>